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8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25C-B1D8-447A-8F48-F98E9BF3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6C2-E4B8-4673-AC80-910354A6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598-2F95-45DE-B4DF-ED580B3E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523-5A3F-4012-B20D-0052B5F4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6EA7-ED19-44EC-A9B8-C63A97D0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3F9A-7885-4F43-845C-4245A7A3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3FF1-A26B-46CF-B91E-8365005F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EC36-603D-41E6-8B41-A0B84210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7C86-40B0-418B-B542-4583F323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FF21-0037-42B9-BC3E-0FD9D067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35B-21B3-4F0F-B3E4-EEE6E93F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E3A-7371-497B-8FEB-C82A049A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D00E-13EB-487B-9680-1EAB2A2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C83E-E848-4257-A05B-C6639779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39C1-CDD6-4598-BD0C-B146BA59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BC92-3EDF-4572-84E0-DF9E854A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B33-A846-47D1-884B-7D9F2F3B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6C0-5160-48F1-B19B-A4446D3B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28E-E8E6-4257-A077-94B53D44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CD5-43A7-4B7C-ACF9-A818781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559-8D3B-4F2C-BA99-92181F0B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F61-816D-4BC1-904F-4B8A28B4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457-7C74-4447-88D9-39B38D33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3D1-1CFE-48E8-B608-D40E040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3E0C-1F4E-4353-A942-881042DC521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11EE-713C-4312-97D7-D629226AB79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1012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124080" y="1676520"/>
            <a:ext cx="5715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ed by Amanda Schu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rector of Distance Learning at the Council of Residential Specia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ent at Northwestern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n734148143_1542689_9145.jpg"/>
          <p:cNvPicPr/>
          <p:nvPr/>
        </p:nvPicPr>
        <p:blipFill>
          <a:blip r:embed="rId2"/>
          <a:stretch/>
        </p:blipFill>
        <p:spPr>
          <a:xfrm>
            <a:off x="380880" y="2209680"/>
            <a:ext cx="2716200" cy="3622680"/>
          </a:xfrm>
          <a:prstGeom prst="rect">
            <a:avLst/>
          </a:prstGeom>
          <a:ln w="25560">
            <a:solidFill>
              <a:srgbClr val="feb80a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MS.jpg"/>
          <p:cNvPicPr/>
          <p:nvPr/>
        </p:nvPicPr>
        <p:blipFill>
          <a:blip r:embed="rId2"/>
          <a:stretch/>
        </p:blipFill>
        <p:spPr>
          <a:xfrm>
            <a:off x="533520" y="160020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ultDim.jpg"/>
          <p:cNvPicPr/>
          <p:nvPr/>
        </p:nvPicPr>
        <p:blipFill>
          <a:blip r:embed="rId2"/>
          <a:stretch/>
        </p:blipFill>
        <p:spPr>
          <a:xfrm>
            <a:off x="2286000" y="1521000"/>
            <a:ext cx="43275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-focus versus Multi-foc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: pre-established proce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: short-term, quick resul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ture: long-term resul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Flowchart: Merge 3"/>
          <p:cNvSpPr/>
          <p:nvPr/>
        </p:nvSpPr>
        <p:spPr>
          <a:xfrm rot="2039400">
            <a:off x="3239640" y="4357440"/>
            <a:ext cx="1252800" cy="243504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18221400">
            <a:off x="3588120" y="495684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: prefers predictability, minimization of ris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exibility: values improvi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Flowchart: Merge 3"/>
          <p:cNvSpPr/>
          <p:nvPr/>
        </p:nvSpPr>
        <p:spPr>
          <a:xfrm rot="19585800">
            <a:off x="3921120" y="3723840"/>
            <a:ext cx="1252440" cy="243540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 rot="3376800">
            <a:off x="3561480" y="4542840"/>
            <a:ext cx="18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erarchy: acceptance of different power relation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uality: little tolerance for differential power relation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Flowchart: Merge 3"/>
          <p:cNvSpPr/>
          <p:nvPr/>
        </p:nvSpPr>
        <p:spPr>
          <a:xfrm rot="11457600">
            <a:off x="3496680" y="3906000"/>
            <a:ext cx="1252440" cy="243540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 rot="17218200">
            <a:off x="3364920" y="510984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-6480" y="66600"/>
            <a:ext cx="9156960" cy="140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: explic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rect: implicit, involves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rties in conflict situ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ressive: emotion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trumental: facts, detach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Flowchart: Merge 3"/>
          <p:cNvSpPr/>
          <p:nvPr/>
        </p:nvSpPr>
        <p:spPr>
          <a:xfrm rot="17366400">
            <a:off x="3240720" y="4358160"/>
            <a:ext cx="1252440" cy="243504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 rot="1048200">
            <a:off x="2624040" y="5318280"/>
            <a:ext cx="239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stionnai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s your cultural preference for a specific orientation or approa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your strengths and areas where you can more easily ada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 Huber supervises Wendy and thinks she doesn’t do her job with thoroughness or attention to det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 does not think Wendy feels empowe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 has told Wendy she needs to change to keep her job, but Wendy’s behavior has not chang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= indirect communicator, equality and harmony orienta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ndy = direct communicator, strong hierarchy, constraint orientat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 is an American manager working in Ind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 presents a report to his Indian supervisor about a new train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’s supervisor states, “The program needs more research and consideration before any decisions can be made.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 spends the next two weeks on the report and presents it to his supervisor agai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’s supervisor is confused and says, “Why are you still working on this project? We already discussed this.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al Due Dilig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e Mentor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al Dialogu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yle Switch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are some attributes of successful leader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3" descr="iStock_000004328001XSmall.jpg"/>
          <p:cNvPicPr/>
          <p:nvPr/>
        </p:nvPicPr>
        <p:blipFill>
          <a:blip r:embed="rId2"/>
          <a:stretch/>
        </p:blipFill>
        <p:spPr>
          <a:xfrm>
            <a:off x="4038480" y="3441600"/>
            <a:ext cx="4613400" cy="3035520"/>
          </a:xfrm>
          <a:prstGeom prst="rect">
            <a:avLst/>
          </a:prstGeom>
          <a:ln w="25560">
            <a:solidFill>
              <a:srgbClr val="feb80a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your strong orient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situations in which your behavior is guided by this prefer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the potential impact of your behavior on someone with an opposite orient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 both + / – conseque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lore your performance challe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the possibilities of style switch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534520" cy="12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hatMod.jpg"/>
          <p:cNvPicPr/>
          <p:nvPr/>
        </p:nvPicPr>
        <p:blipFill>
          <a:blip r:embed="rId2"/>
          <a:stretch/>
        </p:blipFill>
        <p:spPr>
          <a:xfrm>
            <a:off x="747720" y="1752480"/>
            <a:ext cx="77104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ultural Sel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ing Cultural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ng Across Cul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uthentic Leaders Know and 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obal Leadership Compet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ewed competency sources; books, class slides, worksho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ucted six leader intervie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ed and reviewed 25 competencies for themes and repet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l 10 competencies selec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obal Talent Manager, Baker &amp; McKenzie LL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Process &amp; Strategy, UGL-Unic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or of Client Services, Type A Learning Ag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or of Programs for Latin America and East Africa, Solar Household Energy (SH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or, Global Organization Development, Abbott Laborato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tional Account Manager, TSG Glob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s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 Relationships (clients, staff, peer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/ Adaptable (adjust communication, adapt thinking, change leadership styl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f Awaren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ther Awaren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cultural Sensitiv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dentify Culture Gap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ility / Adapta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stion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stening and Learn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grity, living your wor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yle Switch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 the Wa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3"/>
          <p:cNvSpPr/>
          <p:nvPr/>
        </p:nvSpPr>
        <p:spPr>
          <a:xfrm>
            <a:off x="3048120" y="1371600"/>
            <a:ext cx="3047760" cy="19810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048120" y="4724280"/>
            <a:ext cx="3124080" cy="19051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6248520" y="3505320"/>
            <a:ext cx="2361960" cy="16002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0880" y="3429000"/>
            <a:ext cx="2362320" cy="16002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Straight Arrow Connector 8"/>
          <p:cNvCxnSpPr/>
          <p:nvPr/>
        </p:nvCxnSpPr>
        <p:spPr>
          <a:xfrm flipV="1">
            <a:off x="2362320" y="2971440"/>
            <a:ext cx="838800" cy="53424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3" name="Straight Arrow Connector 10"/>
          <p:cNvCxnSpPr/>
          <p:nvPr/>
        </p:nvCxnSpPr>
        <p:spPr>
          <a:xfrm>
            <a:off x="5943240" y="2971440"/>
            <a:ext cx="762840" cy="61020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Straight Arrow Connector 14"/>
          <p:cNvCxnSpPr/>
          <p:nvPr/>
        </p:nvCxnSpPr>
        <p:spPr>
          <a:xfrm flipV="1">
            <a:off x="6248160" y="5105160"/>
            <a:ext cx="610200" cy="45792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Straight Arrow Connector 15"/>
          <p:cNvCxnSpPr/>
          <p:nvPr/>
        </p:nvCxnSpPr>
        <p:spPr>
          <a:xfrm flipH="1" flipV="1">
            <a:off x="2361600" y="4876200"/>
            <a:ext cx="610200" cy="53388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-12600" y="268200"/>
            <a:ext cx="916308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2971800" y="16002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Self Awar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Other Awareness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Intercultural Sensi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6781680" y="3657600"/>
            <a:ext cx="129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Ques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is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ea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53"/>
          <p:cNvSpPr/>
          <p:nvPr/>
        </p:nvSpPr>
        <p:spPr>
          <a:xfrm>
            <a:off x="3124080" y="500076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Identify Culture Ga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Be Flexible / Adap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ive with Integ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54"/>
          <p:cNvSpPr/>
          <p:nvPr/>
        </p:nvSpPr>
        <p:spPr>
          <a:xfrm>
            <a:off x="533520" y="37339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Style Swit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Model the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21"/>
          <p:cNvSpPr/>
          <p:nvPr/>
        </p:nvSpPr>
        <p:spPr>
          <a:xfrm>
            <a:off x="5867280" y="16765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et Training, Coaching &amp; Edu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30"/>
          <p:cNvSpPr/>
          <p:nvPr/>
        </p:nvSpPr>
        <p:spPr>
          <a:xfrm>
            <a:off x="7391520" y="3276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act with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56"/>
          <p:cNvSpPr/>
          <p:nvPr/>
        </p:nvSpPr>
        <p:spPr>
          <a:xfrm>
            <a:off x="5334120" y="6400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Cultural Due Dilig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ild Relations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62"/>
          <p:cNvSpPr/>
          <p:nvPr/>
        </p:nvSpPr>
        <p:spPr>
          <a:xfrm>
            <a:off x="457200" y="5029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ffectively Lead Global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304920" y="175248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  <a:ea typeface="Arial"/>
              </a:rPr>
              <a:t>Choose to Live an Extraordinary L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Straight Arrow Connector 33"/>
          <p:cNvCxnSpPr/>
          <p:nvPr/>
        </p:nvCxnSpPr>
        <p:spPr>
          <a:xfrm>
            <a:off x="2362320" y="1981080"/>
            <a:ext cx="457920" cy="766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e is the key competency for the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entury” – Peter Druck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 the Wa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pire a Shared Vi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allenge the Proc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able Others to 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ourage the He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31640" y="6019920"/>
            <a:ext cx="871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uzes, J. M. and Posner, B. Z. (2007). The leadership challenge (4th ed.). San Francisco, CA: Jossey-B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and manage the impact of culture and interplay of cultural patter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pret complex cultural contexts and develop intercultural compe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omplex patterns of ideas, emotions, and observable behaviors that are expected or rewarded by a group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128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cultural Compet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obal Minds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01992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sland, Bird, Mendenhall &amp; Osland (200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iStock_000004739496XSmall.jpg"/>
          <p:cNvPicPr/>
          <p:nvPr/>
        </p:nvPicPr>
        <p:blipFill>
          <a:blip r:embed="rId2"/>
          <a:stretch/>
        </p:blipFill>
        <p:spPr>
          <a:xfrm>
            <a:off x="5105520" y="3352680"/>
            <a:ext cx="3236760" cy="2160720"/>
          </a:xfrm>
          <a:prstGeom prst="rect">
            <a:avLst/>
          </a:prstGeom>
          <a:ln w="25560">
            <a:solidFill>
              <a:srgbClr val="feb80a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67420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ultural Sel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ing Cultural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ng Across Cul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uthentic Leaders Know and 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obal Leadership Compet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0" y="5897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Model for Identity 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 Larke Nahme Huang, 199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cultself.jpg"/>
          <p:cNvPicPr/>
          <p:nvPr/>
        </p:nvPicPr>
        <p:blipFill>
          <a:blip r:embed="rId2"/>
          <a:stretch/>
        </p:blipFill>
        <p:spPr>
          <a:xfrm>
            <a:off x="361800" y="1274760"/>
            <a:ext cx="84204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Iceberg.jpg"/>
          <p:cNvPicPr/>
          <p:nvPr/>
        </p:nvPicPr>
        <p:blipFill>
          <a:blip r:embed="rId2"/>
          <a:stretch/>
        </p:blipFill>
        <p:spPr>
          <a:xfrm>
            <a:off x="762120" y="1295280"/>
            <a:ext cx="7619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9:37:19Z</dcterms:created>
  <dc:creator>amanda</dc:creator>
  <dc:description/>
  <dc:language>en-US</dc:language>
  <cp:lastModifiedBy>amanda</cp:lastModifiedBy>
  <dcterms:modified xsi:type="dcterms:W3CDTF">2009-06-10T19:41:07Z</dcterms:modified>
  <cp:revision>36</cp:revision>
  <dc:subject/>
  <dc:title>Global </dc:title>
</cp:coreProperties>
</file>