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8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E7B-EB49-4797-B054-0F40FA16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782-3F21-4CBF-9D50-D6DF7062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B7F-9D72-4777-8A34-CDEF6832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C4C-1437-4EC1-9DD2-8073B846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801E-A320-4146-945A-49CDEC20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4176-BE54-4134-9538-12785DF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8181-7B0F-457A-A1A6-923B2E6B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1AE2-B39D-41EB-A7E4-77E3B58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3617-2D0C-4727-B6CE-2C44D8D5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38E5-EA99-4FAB-A522-7E3F9532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C5E5-7690-49EA-834C-1D6B16C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ECF-5517-47AC-A09A-576017C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8D2E-EEA1-45DE-938E-9FFAAB9C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4B40-CECD-4918-AF98-203A4041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B876-FB97-47B2-A266-0683F65F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7A5C-7F7E-4140-8490-21C40F9D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6751-29CD-4104-870C-A25B71BD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0AB-7B1A-4DE7-AFC2-88A0C941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EFF-7DE8-48D0-8E51-D5C0D216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E49-A41E-4F6C-B593-0183AC9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32D-8C7D-47A4-AFDF-6704FF55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A47-C328-458B-8FBA-B018A5F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B1B-F669-4025-83CE-067038C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2ED-C11A-4EBA-9791-7FB19B1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A4D-99D0-4E91-8E4B-C028425B1E6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E41-8513-4C94-AA5B-1EA2F6C94FA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242560" cy="1012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124080" y="1676520"/>
            <a:ext cx="5715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sented by Amanda Schu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rector of Distance Learning at the Council of Residential Specia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udent at Northwestern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n734148143_1542689_9145.jpg"/>
          <p:cNvPicPr/>
          <p:nvPr/>
        </p:nvPicPr>
        <p:blipFill>
          <a:blip r:embed="rId2"/>
          <a:stretch/>
        </p:blipFill>
        <p:spPr>
          <a:xfrm>
            <a:off x="380880" y="2209680"/>
            <a:ext cx="2716200" cy="3622680"/>
          </a:xfrm>
          <a:prstGeom prst="rect">
            <a:avLst/>
          </a:prstGeom>
          <a:ln w="25560">
            <a:solidFill>
              <a:srgbClr val="feb80a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MS.jpg"/>
          <p:cNvPicPr/>
          <p:nvPr/>
        </p:nvPicPr>
        <p:blipFill>
          <a:blip r:embed="rId2"/>
          <a:stretch/>
        </p:blipFill>
        <p:spPr>
          <a:xfrm>
            <a:off x="533520" y="160020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ultDim.jpg"/>
          <p:cNvPicPr/>
          <p:nvPr/>
        </p:nvPicPr>
        <p:blipFill>
          <a:blip r:embed="rId2"/>
          <a:stretch/>
        </p:blipFill>
        <p:spPr>
          <a:xfrm>
            <a:off x="2286000" y="1521000"/>
            <a:ext cx="43275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-focus versus Multi-foc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t: pre-established proce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: short-term, quick resul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ture: long-term resul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Flowchart: Merge 3"/>
          <p:cNvSpPr/>
          <p:nvPr/>
        </p:nvSpPr>
        <p:spPr>
          <a:xfrm rot="2039400">
            <a:off x="3239640" y="4357440"/>
            <a:ext cx="1252800" cy="2435040"/>
          </a:xfrm>
          <a:prstGeom prst="flowChartMerge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 rot="18221400">
            <a:off x="3588120" y="495684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: prefers predictability, minimization of ris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exibility: values improvis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Flowchart: Merge 3"/>
          <p:cNvSpPr/>
          <p:nvPr/>
        </p:nvSpPr>
        <p:spPr>
          <a:xfrm rot="19585800">
            <a:off x="3921120" y="3723840"/>
            <a:ext cx="1252440" cy="2435400"/>
          </a:xfrm>
          <a:prstGeom prst="flowChartMerge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 rot="3376800">
            <a:off x="3561480" y="4542840"/>
            <a:ext cx="18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erarchy: acceptance of different power relationshi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uality: little tolerance for differential power relationshi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Flowchart: Merge 3"/>
          <p:cNvSpPr/>
          <p:nvPr/>
        </p:nvSpPr>
        <p:spPr>
          <a:xfrm rot="11457600">
            <a:off x="3496680" y="3906000"/>
            <a:ext cx="1252440" cy="2435400"/>
          </a:xfrm>
          <a:prstGeom prst="flowChartMerge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 rot="17218200">
            <a:off x="3364920" y="510984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-6480" y="66600"/>
            <a:ext cx="9156960" cy="140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: explic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rect: implicit, involves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rties in conflict situ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ressive: emotion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trumental: facts, detach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Flowchart: Merge 3"/>
          <p:cNvSpPr/>
          <p:nvPr/>
        </p:nvSpPr>
        <p:spPr>
          <a:xfrm rot="17366400">
            <a:off x="3240720" y="4358160"/>
            <a:ext cx="1252440" cy="2435040"/>
          </a:xfrm>
          <a:prstGeom prst="flowChartMerge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 rot="1048200">
            <a:off x="2624040" y="5318280"/>
            <a:ext cx="239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stionnai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s your cultural preference for a specific orientation or approa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your strengths and areas where you can more easily adap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nk Huber supervises Wendy and thinks she doesn’t do her job with thoroughness or attention to det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nk does not think Wendy feels empowe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nk has told Wendy she needs to change to keep her job, but Wendy’s behavior has not chang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nk= indirect communicator, equality and harmony orientat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ndy = direct communicator, strong hierarchy, constraint orientat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 is an American manager working in Ind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 presents a report to his Indian supervisor about a new training pro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’s supervisor states, “The program needs more research and consideration before any decisions can be made.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 spends the next two weeks on the report and presents it to his supervisor agai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m’s supervisor is confused and says, “Why are you still working on this project? We already discussed this.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ltural Due Dilig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lture Mentor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ltural Dialogu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yle Switch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are some attributes of successful leaders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3" descr="iStock_000004328001XSmall.jpg"/>
          <p:cNvPicPr/>
          <p:nvPr/>
        </p:nvPicPr>
        <p:blipFill>
          <a:blip r:embed="rId2"/>
          <a:stretch/>
        </p:blipFill>
        <p:spPr>
          <a:xfrm>
            <a:off x="4038480" y="3441600"/>
            <a:ext cx="4613400" cy="3035520"/>
          </a:xfrm>
          <a:prstGeom prst="rect">
            <a:avLst/>
          </a:prstGeom>
          <a:ln w="25560">
            <a:solidFill>
              <a:srgbClr val="feb80a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your strong orient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situations in which your behavior is guided by this prefer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the potential impact of your behavior on someone with an opposite orient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 both + / – conseque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lore your performance challe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the possibilities of style switch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534520" cy="12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hatMod.jpg"/>
          <p:cNvPicPr/>
          <p:nvPr/>
        </p:nvPicPr>
        <p:blipFill>
          <a:blip r:embed="rId2"/>
          <a:stretch/>
        </p:blipFill>
        <p:spPr>
          <a:xfrm>
            <a:off x="747720" y="1752480"/>
            <a:ext cx="77104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30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ultural Sel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ing Cultural Con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necting Across Cul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uthentic Leaders Know and D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obal Leadership Competen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viewed competency sources; books, class slides, worksho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ucted six leader interview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ed and reviewed 25 competencies for themes and repet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al 10 competencies selec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obal Talent Manager, Baker &amp; McKenzie LL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Process &amp; Strategy, UGL-Unic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or of Client Services, Type A Learning Ag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or of Programs for Latin America and East Africa, Solar Household Energy (SH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or, Global Organization Development, Abbott Laborator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tional Account Manager, TSG Glob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s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 Relationships (clients, staff, peer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/ Adaptable (adjust communication, adapt thinking, change leadership styl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f Awaren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ther Awaren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cultural Sensitiv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dentify Culture Gap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ility / Adaptab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stion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stening and Learn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grity, living your wor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yle Switch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 the Wa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3"/>
          <p:cNvSpPr/>
          <p:nvPr/>
        </p:nvSpPr>
        <p:spPr>
          <a:xfrm>
            <a:off x="3048120" y="1371600"/>
            <a:ext cx="3047760" cy="198108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048120" y="4724280"/>
            <a:ext cx="3124080" cy="190512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6248520" y="3505320"/>
            <a:ext cx="2361960" cy="16002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0880" y="3429000"/>
            <a:ext cx="2362320" cy="16002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Straight Arrow Connector 8"/>
          <p:cNvCxnSpPr/>
          <p:nvPr/>
        </p:nvCxnSpPr>
        <p:spPr>
          <a:xfrm flipV="1">
            <a:off x="2362320" y="2971440"/>
            <a:ext cx="838800" cy="534240"/>
          </a:xfrm>
          <a:prstGeom prst="straightConnector1">
            <a:avLst/>
          </a:prstGeom>
          <a:ln cap="rnd" w="50760">
            <a:solidFill>
              <a:srgbClr val="feb8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3" name="Straight Arrow Connector 10"/>
          <p:cNvCxnSpPr/>
          <p:nvPr/>
        </p:nvCxnSpPr>
        <p:spPr>
          <a:xfrm>
            <a:off x="5943240" y="2971440"/>
            <a:ext cx="762840" cy="610200"/>
          </a:xfrm>
          <a:prstGeom prst="straightConnector1">
            <a:avLst/>
          </a:prstGeom>
          <a:ln cap="rnd" w="50760">
            <a:solidFill>
              <a:srgbClr val="feb8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4" name="Straight Arrow Connector 14"/>
          <p:cNvCxnSpPr/>
          <p:nvPr/>
        </p:nvCxnSpPr>
        <p:spPr>
          <a:xfrm flipV="1">
            <a:off x="6248160" y="5105160"/>
            <a:ext cx="610200" cy="457920"/>
          </a:xfrm>
          <a:prstGeom prst="straightConnector1">
            <a:avLst/>
          </a:prstGeom>
          <a:ln cap="rnd" w="50760">
            <a:solidFill>
              <a:srgbClr val="feb8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5" name="Straight Arrow Connector 15"/>
          <p:cNvCxnSpPr/>
          <p:nvPr/>
        </p:nvCxnSpPr>
        <p:spPr>
          <a:xfrm flipH="1" flipV="1">
            <a:off x="2361600" y="4876200"/>
            <a:ext cx="610200" cy="533880"/>
          </a:xfrm>
          <a:prstGeom prst="straightConnector1">
            <a:avLst/>
          </a:prstGeom>
          <a:ln cap="rnd" w="50760">
            <a:solidFill>
              <a:srgbClr val="feb80a"/>
            </a:solidFill>
            <a:miter/>
            <a:headEnd len="med" type="arrow" w="med"/>
            <a:tailEnd len="med" type="arrow" w="med"/>
          </a:ln>
        </p:spPr>
      </p:cxnSp>
      <p:pic>
        <p:nvPicPr>
          <p:cNvPr id="156" name="Title 1" descr=""/>
          <p:cNvPicPr/>
          <p:nvPr/>
        </p:nvPicPr>
        <p:blipFill>
          <a:blip r:embed="rId1"/>
          <a:stretch/>
        </p:blipFill>
        <p:spPr>
          <a:xfrm>
            <a:off x="-12600" y="268200"/>
            <a:ext cx="916308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2971800" y="160020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Self Awar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Other Awareness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Intercultural Sensitiv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6781680" y="3657600"/>
            <a:ext cx="129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Ques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Lis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Lea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53"/>
          <p:cNvSpPr/>
          <p:nvPr/>
        </p:nvSpPr>
        <p:spPr>
          <a:xfrm>
            <a:off x="3124080" y="500076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Identify Culture Ga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Be Flexible / Adap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Live with Integ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54"/>
          <p:cNvSpPr/>
          <p:nvPr/>
        </p:nvSpPr>
        <p:spPr>
          <a:xfrm>
            <a:off x="533520" y="37339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Style Swit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"/>
              </a:rPr>
              <a:t>Model the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21"/>
          <p:cNvSpPr/>
          <p:nvPr/>
        </p:nvSpPr>
        <p:spPr>
          <a:xfrm>
            <a:off x="5867280" y="16765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et Training, Coaching &amp; Edu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30"/>
          <p:cNvSpPr/>
          <p:nvPr/>
        </p:nvSpPr>
        <p:spPr>
          <a:xfrm>
            <a:off x="7391520" y="3276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act with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56"/>
          <p:cNvSpPr/>
          <p:nvPr/>
        </p:nvSpPr>
        <p:spPr>
          <a:xfrm>
            <a:off x="5334120" y="64008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Cultural Due Dilig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uild Relationshi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62"/>
          <p:cNvSpPr/>
          <p:nvPr/>
        </p:nvSpPr>
        <p:spPr>
          <a:xfrm>
            <a:off x="457200" y="5029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ffectively Lead Global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6"/>
          <p:cNvSpPr/>
          <p:nvPr/>
        </p:nvSpPr>
        <p:spPr>
          <a:xfrm>
            <a:off x="304920" y="175248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b80a"/>
                </a:solidFill>
                <a:latin typeface="Arial"/>
                <a:ea typeface="Arial"/>
              </a:rPr>
              <a:t>Choose to Live an Extraordinary L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Straight Arrow Connector 33"/>
          <p:cNvCxnSpPr/>
          <p:nvPr/>
        </p:nvCxnSpPr>
        <p:spPr>
          <a:xfrm>
            <a:off x="2362320" y="1981080"/>
            <a:ext cx="457920" cy="76680"/>
          </a:xfrm>
          <a:prstGeom prst="straightConnector1">
            <a:avLst/>
          </a:prstGeom>
          <a:ln w="25560">
            <a:solidFill>
              <a:srgbClr val="feb8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lture is the key competency for the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entury” – Peter Druck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 the Wa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pire a Shared Vi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allenge the Proc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able Others to Ac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ourage the Hear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31640" y="6019920"/>
            <a:ext cx="871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ouzes, J. M. and Posner, B. Z. (2007). The leadership challenge (4th ed.). San Francisco, CA: Jossey-B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91569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and manage the impact of culture and interplay of cultural patter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pret complex cultural contexts and develop intercultural compet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omplex patterns of ideas, emotions, and observable behaviors that are expected or rewarded by a group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128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cultural Compet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obal Minds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01992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sland, Bird, Mendenhall &amp; Osland (200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iStock_000004739496XSmall.jpg"/>
          <p:cNvPicPr/>
          <p:nvPr/>
        </p:nvPicPr>
        <p:blipFill>
          <a:blip r:embed="rId2"/>
          <a:stretch/>
        </p:blipFill>
        <p:spPr>
          <a:xfrm>
            <a:off x="5105520" y="3352680"/>
            <a:ext cx="3236760" cy="2160720"/>
          </a:xfrm>
          <a:prstGeom prst="rect">
            <a:avLst/>
          </a:prstGeom>
          <a:ln w="25560">
            <a:solidFill>
              <a:srgbClr val="feb80a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67420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ultural Sel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ing Cultural Contex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necting Across Cul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uthentic Leaders Know and D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lobal Leadership Competenc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0" y="5897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Model for Identity 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 Larke Nahme Huang, 199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cultself.jpg"/>
          <p:cNvPicPr/>
          <p:nvPr/>
        </p:nvPicPr>
        <p:blipFill>
          <a:blip r:embed="rId2"/>
          <a:stretch/>
        </p:blipFill>
        <p:spPr>
          <a:xfrm>
            <a:off x="361800" y="1274760"/>
            <a:ext cx="84204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Iceberg.jpg"/>
          <p:cNvPicPr/>
          <p:nvPr/>
        </p:nvPicPr>
        <p:blipFill>
          <a:blip r:embed="rId2"/>
          <a:stretch/>
        </p:blipFill>
        <p:spPr>
          <a:xfrm>
            <a:off x="762120" y="1295280"/>
            <a:ext cx="7619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9:37:19Z</dcterms:created>
  <dc:creator>amanda</dc:creator>
  <dc:description/>
  <dc:language>en-US</dc:language>
  <cp:lastModifiedBy>amanda</cp:lastModifiedBy>
  <dcterms:modified xsi:type="dcterms:W3CDTF">2009-06-10T19:41:07Z</dcterms:modified>
  <cp:revision>36</cp:revision>
  <dc:subject/>
  <dc:title>Global </dc:title>
</cp:coreProperties>
</file>